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E7F3-6317-4A46-9ADE-9984C916D8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9BA1-BDD2-41E4-978D-F23C554304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ая работа учащихся 7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D7EA-737C-420E-9168-CCBAD8EE01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зделия из бисквитного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D173-5981-493C-A521-5281450C1D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лоеное т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 (маргарин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йца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4CCF-21A0-4DB4-894B-12FBDD0AB9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ыхление теста достигается благодаря раскатыванию в очень тонкие слои, отделяемые друг от друга прослойками сливочного масла или марга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 и уксусную кислоту растворяют в в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авляют яйца, му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шивают упругое тесто, вливая оставшуюся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ляют на 20 мину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перед закаткой в тесто размягчают, перемешивают с мукой, формируют в виде прямоугольника, охлаждают 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2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87A1-995A-465C-AE1D-118BEDF2A8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резают тесто ножом крестообразно (рис. 1), подсыпают муку и раскатывают тесто скалкой так, чтобы середина пласта была толще, чем края (рис. 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ентр пласта кладут заготовленную лепешку масла, перемешанного с мукой, накрывают ее длинными краями пласта (рис. 3) и защипывают края лепеш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ый «конверт» кладут на стол и начиная от середины, раскатывают тесто в прямоугольный пласт толщиной 10 м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ют в четверо, накрывают салфеткой и охлаждают в течение 20 м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лажденное тесто вновь раскатывают и складывают в четверо. Так делают не менее 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251E-3DD1-4413-A734-9CC18A9F77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зделия из слоеного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75F5-740D-4D9E-AA68-E3AE8EF13B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сочное т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(маргар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8E49-FDB8-4DFB-8960-5337B6ADDF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1 Способ пригот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или маргарин размягчают, растирают с сахарной пудрой, добавляют яйца и перемешив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ассу вводят погашенную уксусом или лимонным соком с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ыпают просеянную муку и быстро замешив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995E-D51B-4994-B349-CDC699D8F0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 Способ пригот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еянную муку высыпают горкой, сверху насыпают сахар, разрыхлитель, цедру лимона, ванил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уке делают углубление, вбивают яйцо, кладут кусочки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нным ножом рубят все продукты и быстро замешивают т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856D-8094-43E5-B612-13721060B8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зделия из песочного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чен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тал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0DF5-0346-4095-8E3C-3A67A7DD02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ОЖЖЕВ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ДРОЖЖЕВ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есн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соч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бисквит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лоено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2674-4C91-4346-BD9E-6859ABD601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рожжевое т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ож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ли моло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сливочное или сливочный мар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2835-98D0-4D68-8E29-B8836AAE2A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зделия из дрожжевого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о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ж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оги и кулебя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ад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тр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леты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7F94-5A5A-4479-9119-5B7C8D5B4C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Способ приготовления дрожжевого тес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ят его двумя способами — безопарным и опарным. Безопарным способом готовят тесто с малым количеством сдобы (масла, сахара, яиц). Опарный способ применяют при изготовлении более сдобных издел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273F-024A-4D23-9480-39765B3BC1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езопарный спос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отовление те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безопарны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пособом: дрожжи разводят теплым молоком или водой (30 °С), добавляют сахар, соль, хорошо перемешивают до растворения, кладут яйца и всыпают муку. Замешивают тесто, добавляя в конце размягченный до густоты сметаны жир или вливают растительное масло. Тесто накрывают чистой тканью и ставят в теплое место для брожения на 3–4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далить лишний углекислый газ и обогатить тесто кислородом, делают обминки, а затем вновь дают тесту подняться. Первую обминку делают через 1–1 1/2 часа, вторую — еще через 2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594B-9694-48C6-B6EA-DA21B014DA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парный спосо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опарно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е в подогретую до 40 °С воду или молоко (60% от нормы) добавляют растворенные в воде и процеженные дрожжи, всыпают половину нормы муки и перемешивают до получения однородной массы. Поверхность опары посыпают мукой, накрывают тканью и ставят в теплое место для брожения на 2–3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опара увеличится в объеме в 2 раза и начнет опадать, к ней добавляют оставшуюся жидкость с растворенными солью и сахаром, яйца, все перемешивают, вводят муку и замешивают тесто. Перед окончанием замеса добавляют размягченный жир. Тесто накрывают тканью и оставляют для брожения еще на 2–3 ча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ремя брожения тесто обминают 2–3 раза. Выбродившее тесто увеличивается в объеме в 2 раза, при надавливании на поверхность ямка медленно выравнивается, тесто не прилипает к рукам и отстает от стенок посу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33CD-A382-4641-9737-5106EB1504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Бисквитное т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М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ах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Яй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9C44-FEEE-4DD5-BA43-B6A9091FC7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ыхлители не добавля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идания пористой структуры в тесто вводят взбитые яйца или яичные 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муки можно заменить картофельным крахма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сквитное тесто имеет жидкую консистенцию. Его выливают в форму, покрытую промасленной бумагой и ставят в духовой шкаф, разогретый до 2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ремя выпекания 20-40 мин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7513-130C-4A52-ABE2-31166FCB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F93-D49B-4DA4-B7DD-F33E4DC0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45A-6678-41DC-9567-82FB4967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0FE-499D-4666-BB48-524E6DB5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4A1-A642-4275-B957-608CBAB2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E69-87AF-4BDD-8F36-078F7CA1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C41B-1B79-432E-9A16-0F747814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483-4388-48A9-AD96-9EF3DBB2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4D4-7F05-4512-9041-2BBEE18E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AFFF-9499-4049-96B3-47777A0B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A0E-A66C-4D4F-8265-5D8E05ED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3D4-6AEA-44B3-9926-8D761D7D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B935-08F1-4FBE-8D8E-567D706DC5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808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4419360"/>
            <a:ext cx="5562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лективная работа учащихся 7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зделия из бисквитного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2840040" cy="447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3809880" cy="28670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лоеное тес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 (маргарин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4876920" y="4267080"/>
            <a:ext cx="3657600" cy="2435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ение теста достигается благодаря раскатыванию в очень тонкие слои, отделяемые друг от друга прослойками сливочного масла или марга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ь и уксусную кислоту растворяют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авляют яйца, м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шивают упругое тесто, вливая оставшуюся в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вляют на 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ло перед закаткой в тесто размягчают, перемешивают с мукой, формируют в виде прямоугольника, охлаждают д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2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Способ приготов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6248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резают тесто ножом крестообразно (рис. 1), подсыпают муку и раскатывают тесто скалкой так, чтобы середина пласта была толще, чем края (рис. 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центр пласта кладут заготовленную лепешку масла, перемешанного с мукой, накрывают ее длинными краями пласта (рис. 3) и защипывают края лепеш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ый «конверт» кладут на стол и начиная от середины, раскатывают тесто в прямоугольный пласт толщиной 10 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ывают в четверо, накрывают салфеткой и охлаждают в течение 20 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хлажденное тесто вновь раскатывают и складывают в четверо. Так делают не менее 5-6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476760" y="1143000"/>
            <a:ext cx="2438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629400" y="1447920"/>
            <a:ext cx="2152800" cy="1609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6705720" y="3505320"/>
            <a:ext cx="2038320" cy="1190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6581880" y="5181480"/>
            <a:ext cx="2562120" cy="1565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слоен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4000320" cy="4000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3714840" cy="25066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очное тес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(маргар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1 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или маргарин размягчают, растирают с сахарной пудрой, добавляют яйца и перемешив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ссу вводят погашенную уксусом или лимонным соком с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ыпают просеянную муку и быстро замеши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2 Способ приготовл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еянную муку высыпают горкой, сверху насыпают сахар, разрыхлитель, цедру лимона, вани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уке делают углубление, вбивают яйцо, кладут кусочки ма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ным ножом рубят все продукты и быстро замешивают т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лаждают в течении 1 ч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песочн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рта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3138480" cy="235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3733920" cy="2766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5334120" y="4052880"/>
            <a:ext cx="3047760" cy="2023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Виды те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ОЖЖЕВ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ДРОЖЖЕВ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рес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очн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бисквитно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лоено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74504168_large_028"/>
          <p:cNvPicPr/>
          <p:nvPr/>
        </p:nvPicPr>
        <p:blipFill>
          <a:blip r:embed="rId1"/>
          <a:stretch/>
        </p:blipFill>
        <p:spPr>
          <a:xfrm>
            <a:off x="457200" y="3276720"/>
            <a:ext cx="3200400" cy="3186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Дрожжевое тест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ож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или мол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ло сливочное или сливочный марг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2847960" cy="21272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Изделия из дрожжевого те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л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ж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оги и кулебя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ад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тр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леты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638680" y="1219320"/>
            <a:ext cx="3143520" cy="20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191120" y="3733920"/>
            <a:ext cx="3809880" cy="284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2743200" y="1295280"/>
            <a:ext cx="2666880" cy="20005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пособ приготовления дрожжевого тес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товят его двумя способами — безопарным и опарным. Безопарным способом готовят тесто с малым количеством сдобы (масла, сахара, яиц). Опарный способ применяют при изготовлении более сдобных издел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Безопарный спосо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готовление тес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езопар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пособом: дрожжи разводят теплым молоком или водой (30 °С), добавляют сахар, соль, хорошо перемешивают до растворения, кладут яйца и всыпают муку. Замешивают тесто, добавляя в конце размягченный до густоты сметаны жир или вливают растительное масло. Тесто накрывают чистой тканью и ставят в теплое место для брожения на 3–4 ча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удалить лишний углекислый газ и обогатить тесто кислородом, делают обминки, а затем вновь дают тесту подняться. Первую обминку делают через 1–1 1/2 часа, вторую — еще через 2 ча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парный спосо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парно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е в подогретую до 40 °С воду или молоко (60% от нормы) добавляют растворенные в воде и процеженные дрожжи, всыпают половину нормы муки и перемешивают до получения однородной массы. Поверхность опары посыпают мукой, накрывают тканью и ставят в теплое место для брожения на 2–3 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опара увеличится в объеме в 2 раза и начнет опадать, к ней добавляют оставшуюся жидкость с растворенными солью и сахаром, яйца, все перемешивают, вводят муку и замешивают тесто. Перед окончанием замеса добавляют размягченный жир. Тесто накрывают тканью и оставляют для брожения еще на 2–3 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время брожения тесто обминают 2–3 раза. Выбродившее тесто увеличивается в объеме в 2 раза, при надавливании на поверхность ямка медленно выравнивается, тесто не прилипает к рукам и отстает от стенок посу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Бисквитное тес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ст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Яй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743200" y="4114800"/>
            <a:ext cx="2133720" cy="21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2543400" cy="1898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2619360" cy="18687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ители не добавля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идания пористой структуры в тесто вводят взбитые яйца или яичные б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муки можно заменить картофельным крахм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ное тесто имеет жидкую консистенцию. Его выливают в форму, покрытую промасленной бумагой и ставят в духовой шкаф, разогретый до 2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ремя выпекания 20-40 мин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43:2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